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lstStyle>
            <a:lvl1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016520" y="97124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82F9D40-AC3C-41E1-9D51-B307A3107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3.7.00: Systor, 10'000.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6.8.00: esmertec, 3'000.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8.9.00: Sun Mircorsystems, 10'000.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22.9.00: Credit Suisse, 10'000.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9.10.00: Zuehlke Engineering AG, 3'000.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28.11.00: Bea Systems, 3'000.- (Vertrag datiert auf 1.10.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6.12.00: IBM, 8'000.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44280" y="4856040"/>
            <a:ext cx="5197320" cy="4600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3.4.00: Object Engineering, 5907,63 (Event mit Peter Coa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7.4.00: esmertec, 143,10 (Event vom 7.2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942-52F6-4AC2-96D1-17B50682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766680"/>
            <a:ext cx="7162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E75-9860-49DE-94F2-8CECD865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495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27400" y="1219320"/>
            <a:ext cx="3495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766680"/>
            <a:ext cx="3495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27400" y="3766680"/>
            <a:ext cx="3495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462-1766-4296-8703-2377164E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30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78560" y="1219320"/>
            <a:ext cx="230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00640" y="1219320"/>
            <a:ext cx="230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766680"/>
            <a:ext cx="230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78560" y="3766680"/>
            <a:ext cx="230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00640" y="3766680"/>
            <a:ext cx="230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85A-D7FA-41D5-89A9-9E666D31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AF8-BA90-4B3A-9CFB-7532C37F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7AF-F70D-420F-B927-E2E27A80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49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27400" y="1219320"/>
            <a:ext cx="349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AE8-FE73-4B76-87E0-51658E5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C3F-E9B2-4466-9973-8CC845BA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721-138F-474F-A47A-4E3DB62A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495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7400" y="1219320"/>
            <a:ext cx="349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766680"/>
            <a:ext cx="3495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EE0-D07D-4C7D-BE6B-7AE9D029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49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7400" y="1219320"/>
            <a:ext cx="3495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27400" y="3766680"/>
            <a:ext cx="3495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580-2F66-4CB6-AD37-983F6A10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532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495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27400" y="1219320"/>
            <a:ext cx="3495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766680"/>
            <a:ext cx="7162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0C2-D5BC-445B-9300-256293D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228600" y="304920"/>
          <a:ext cx="6541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920"/>
                    <a:ext cx="654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yria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yria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yria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E11F-1089-4092-B217-8038E951FC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696080" y="380880"/>
          <a:ext cx="1295640" cy="4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96080" y="380880"/>
                    <a:ext cx="12956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2.png"/><Relationship Id="rId8" Type="http://schemas.openxmlformats.org/officeDocument/2006/relationships/image" Target="../media/image10.jpeg"/><Relationship Id="rId9" Type="http://schemas.openxmlformats.org/officeDocument/2006/relationships/image" Target="../media/image1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3.jpeg"/><Relationship Id="rId4" Type="http://schemas.openxmlformats.org/officeDocument/2006/relationships/image" Target="../media/image15.png"/><Relationship Id="rId5" Type="http://schemas.openxmlformats.org/officeDocument/2006/relationships/hyperlink" Target="http://www.canoo.com/" TargetMode="External"/><Relationship Id="rId6" Type="http://schemas.openxmlformats.org/officeDocument/2006/relationships/image" Target="../media/image19.png"/><Relationship Id="rId7" Type="http://schemas.openxmlformats.org/officeDocument/2006/relationships/hyperlink" Target="http://www-5.ibm.com/ch/" TargetMode="External"/><Relationship Id="rId8" Type="http://schemas.openxmlformats.org/officeDocument/2006/relationships/image" Target="../media/image12.png"/><Relationship Id="rId9" Type="http://schemas.openxmlformats.org/officeDocument/2006/relationships/hyperlink" Target="http://www.omex.ch/" TargetMode="External"/><Relationship Id="rId10" Type="http://schemas.openxmlformats.org/officeDocument/2006/relationships/image" Target="../media/image20.png"/><Relationship Id="rId11" Type="http://schemas.openxmlformats.org/officeDocument/2006/relationships/hyperlink" Target="http://www.netcetera.ch/" TargetMode="External"/><Relationship Id="rId12" Type="http://schemas.openxmlformats.org/officeDocument/2006/relationships/image" Target="../media/image17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5.xml"/><Relationship Id="rId1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00040" y="3200400"/>
          <a:ext cx="871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200400"/>
                    <a:ext cx="871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yriad Condensed"/>
              </a:rPr>
              <a:t>5th General Assembly</a:t>
            </a:r>
            <a:endParaRPr b="1" lang="en-US" sz="5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Technopark, Zurich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13th December 2002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35320" y="990720"/>
          <a:ext cx="4471920" cy="15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5320" y="990720"/>
                    <a:ext cx="447192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JUGS Member Count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24280" y="1916280"/>
            <a:ext cx="4024440" cy="2757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5257800" cy="1703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" y="4800600"/>
            <a:ext cx="8305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Sponsor Changes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752480"/>
            <a:ext cx="4114800" cy="441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Myriad Condensed"/>
              </a:rPr>
              <a:t>=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752480"/>
            <a:ext cx="4114800" cy="441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Myriad Condensed"/>
              </a:rPr>
              <a:t>Welco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HP_invent_klein" descr="Hewlett-Packard (Schweiz) AG - JUGS Silversponsor"/>
          <p:cNvPicPr/>
          <p:nvPr/>
        </p:nvPicPr>
        <p:blipFill>
          <a:blip r:embed="rId1"/>
          <a:stretch/>
        </p:blipFill>
        <p:spPr>
          <a:xfrm>
            <a:off x="4876920" y="2690640"/>
            <a:ext cx="1218960" cy="744840"/>
          </a:xfrm>
          <a:prstGeom prst="rect">
            <a:avLst/>
          </a:prstGeom>
          <a:ln w="0">
            <a:noFill/>
          </a:ln>
        </p:spPr>
      </p:pic>
      <p:pic>
        <p:nvPicPr>
          <p:cNvPr id="85" name="SilverstreamLogoCH" descr="SilverStream - JUGS Silversponsor"/>
          <p:cNvPicPr/>
          <p:nvPr/>
        </p:nvPicPr>
        <p:blipFill>
          <a:blip r:embed="rId2"/>
          <a:stretch/>
        </p:blipFill>
        <p:spPr>
          <a:xfrm>
            <a:off x="5638680" y="3757680"/>
            <a:ext cx="2895840" cy="433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8320" y="1828800"/>
            <a:ext cx="39621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ff"/>
                </a:solidFill>
                <a:latin typeface="Myriad Condensed"/>
              </a:rPr>
              <a:t>N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828800"/>
            <a:ext cx="39625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ff"/>
                </a:solidFill>
                <a:latin typeface="Myriad Condensed"/>
              </a:rPr>
              <a:t>Left 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ibm_blue_klein2" descr="IBM (Schweiz) AG - JUGS Silversponsor"/>
          <p:cNvPicPr/>
          <p:nvPr/>
        </p:nvPicPr>
        <p:blipFill>
          <a:blip r:embed="rId3"/>
          <a:stretch/>
        </p:blipFill>
        <p:spPr>
          <a:xfrm>
            <a:off x="5257800" y="4648320"/>
            <a:ext cx="1523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Current Sponsors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5465880"/>
            <a:ext cx="2286000" cy="533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yriad Condensed"/>
              </a:rPr>
              <a:t>Silver-Spon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23000" y="4919760"/>
          <a:ext cx="20653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3000" y="4919760"/>
                    <a:ext cx="2065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sunlogodotnew-blu" descr=""/>
          <p:cNvPicPr/>
          <p:nvPr/>
        </p:nvPicPr>
        <p:blipFill>
          <a:blip r:embed="rId3"/>
          <a:stretch/>
        </p:blipFill>
        <p:spPr>
          <a:xfrm>
            <a:off x="826920" y="4871880"/>
            <a:ext cx="1860840" cy="1081080"/>
          </a:xfrm>
          <a:prstGeom prst="rect">
            <a:avLst/>
          </a:prstGeom>
          <a:ln w="0">
            <a:noFill/>
          </a:ln>
        </p:spPr>
      </p:pic>
      <p:pic>
        <p:nvPicPr>
          <p:cNvPr id="94" name="cs_r" descr=""/>
          <p:cNvPicPr/>
          <p:nvPr/>
        </p:nvPicPr>
        <p:blipFill>
          <a:blip r:embed="rId4"/>
          <a:stretch/>
        </p:blipFill>
        <p:spPr>
          <a:xfrm>
            <a:off x="3962520" y="1785960"/>
            <a:ext cx="1846080" cy="863640"/>
          </a:xfrm>
          <a:prstGeom prst="rect">
            <a:avLst/>
          </a:prstGeom>
          <a:ln w="0">
            <a:noFill/>
          </a:ln>
        </p:spPr>
      </p:pic>
      <p:pic>
        <p:nvPicPr>
          <p:cNvPr id="95" name="Logo_zuehlke2" descr=""/>
          <p:cNvPicPr/>
          <p:nvPr/>
        </p:nvPicPr>
        <p:blipFill>
          <a:blip r:embed="rId5"/>
          <a:stretch/>
        </p:blipFill>
        <p:spPr>
          <a:xfrm>
            <a:off x="3435480" y="4729320"/>
            <a:ext cx="3047760" cy="1366560"/>
          </a:xfrm>
          <a:prstGeom prst="rect">
            <a:avLst/>
          </a:prstGeom>
          <a:ln w="0">
            <a:noFill/>
          </a:ln>
        </p:spPr>
      </p:pic>
      <p:pic>
        <p:nvPicPr>
          <p:cNvPr id="96" name="bea" descr=""/>
          <p:cNvPicPr/>
          <p:nvPr/>
        </p:nvPicPr>
        <p:blipFill>
          <a:blip r:embed="rId6"/>
          <a:stretch/>
        </p:blipFill>
        <p:spPr>
          <a:xfrm>
            <a:off x="865080" y="1600200"/>
            <a:ext cx="1784520" cy="107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280" y="1371600"/>
            <a:ext cx="6477120" cy="46148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bm_blue_klein2" descr="IBM (Schweiz) AG - JUGS Silversponsor"/>
          <p:cNvPicPr/>
          <p:nvPr/>
        </p:nvPicPr>
        <p:blipFill>
          <a:blip r:embed="rId7"/>
          <a:stretch/>
        </p:blipFill>
        <p:spPr>
          <a:xfrm>
            <a:off x="4191120" y="3048120"/>
            <a:ext cx="152388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HP_invent_klein" descr="Hewlett-Packard (Schweiz) AG - JUGS Silversponsor"/>
          <p:cNvPicPr/>
          <p:nvPr/>
        </p:nvPicPr>
        <p:blipFill>
          <a:blip r:embed="rId8"/>
          <a:stretch/>
        </p:blipFill>
        <p:spPr>
          <a:xfrm>
            <a:off x="1143000" y="2971800"/>
            <a:ext cx="1219320" cy="744480"/>
          </a:xfrm>
          <a:prstGeom prst="rect">
            <a:avLst/>
          </a:prstGeom>
          <a:ln w="0">
            <a:noFill/>
          </a:ln>
        </p:spPr>
      </p:pic>
      <p:pic>
        <p:nvPicPr>
          <p:cNvPr id="100" name="netcetera-logo-small" descr="netcetera AG - JUGS Silversponsor"/>
          <p:cNvPicPr/>
          <p:nvPr/>
        </p:nvPicPr>
        <p:blipFill>
          <a:blip r:embed="rId9"/>
          <a:stretch/>
        </p:blipFill>
        <p:spPr>
          <a:xfrm>
            <a:off x="762120" y="3809880"/>
            <a:ext cx="2971800" cy="397080"/>
          </a:xfrm>
          <a:prstGeom prst="rect">
            <a:avLst/>
          </a:prstGeom>
          <a:ln w="0">
            <a:noFill/>
          </a:ln>
        </p:spPr>
      </p:pic>
      <p:pic>
        <p:nvPicPr>
          <p:cNvPr id="101" name="SilverstreamLogoCH" descr="SilverStream - JUGS Silversponsor"/>
          <p:cNvPicPr/>
          <p:nvPr/>
        </p:nvPicPr>
        <p:blipFill>
          <a:blip r:embed="rId10"/>
          <a:stretch/>
        </p:blipFill>
        <p:spPr>
          <a:xfrm>
            <a:off x="3352680" y="4367160"/>
            <a:ext cx="28958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Event Sponsors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429000" y="3568680"/>
          <a:ext cx="952560" cy="1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568680"/>
                    <a:ext cx="952560" cy="1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sunlogodotnew-blu" descr=""/>
          <p:cNvPicPr/>
          <p:nvPr/>
        </p:nvPicPr>
        <p:blipFill>
          <a:blip r:embed="rId3"/>
          <a:stretch/>
        </p:blipFill>
        <p:spPr>
          <a:xfrm>
            <a:off x="6691320" y="2381400"/>
            <a:ext cx="942840" cy="547560"/>
          </a:xfrm>
          <a:prstGeom prst="rect">
            <a:avLst/>
          </a:prstGeom>
          <a:ln w="0">
            <a:noFill/>
          </a:ln>
        </p:spPr>
      </p:pic>
      <p:pic>
        <p:nvPicPr>
          <p:cNvPr id="106" name="Logo_zuehlke2" descr=""/>
          <p:cNvPicPr/>
          <p:nvPr/>
        </p:nvPicPr>
        <p:blipFill>
          <a:blip r:embed="rId4"/>
          <a:stretch/>
        </p:blipFill>
        <p:spPr>
          <a:xfrm>
            <a:off x="3429000" y="4324320"/>
            <a:ext cx="922320" cy="414360"/>
          </a:xfrm>
          <a:prstGeom prst="rect">
            <a:avLst/>
          </a:prstGeom>
          <a:ln w="0">
            <a:noFill/>
          </a:ln>
        </p:spPr>
      </p:pic>
      <p:pic>
        <p:nvPicPr>
          <p:cNvPr id="107" name="logo_canoo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3200400"/>
            <a:ext cx="1285920" cy="522360"/>
          </a:xfrm>
          <a:prstGeom prst="rect">
            <a:avLst/>
          </a:prstGeom>
          <a:ln w="0">
            <a:noFill/>
          </a:ln>
        </p:spPr>
      </p:pic>
      <p:pic>
        <p:nvPicPr>
          <p:cNvPr id="108" name="ibm_blue_klein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51080" y="3448080"/>
            <a:ext cx="1028520" cy="4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1520" y="121824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Condensed"/>
              </a:rPr>
              <a:t>Thanks to speakers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logo_omex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228600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11" name="netcetera-logo-small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24480" y="4476600"/>
            <a:ext cx="1714680" cy="228600"/>
          </a:xfrm>
          <a:prstGeom prst="rect">
            <a:avLst/>
          </a:prstGeom>
          <a:ln w="0">
            <a:noFill/>
          </a:ln>
        </p:spPr>
      </p:pic>
      <p:pic>
        <p:nvPicPr>
          <p:cNvPr id="112" name="xcentric" descr=""/>
          <p:cNvPicPr/>
          <p:nvPr/>
        </p:nvPicPr>
        <p:blipFill>
          <a:blip r:embed="rId13"/>
          <a:stretch/>
        </p:blipFill>
        <p:spPr>
          <a:xfrm>
            <a:off x="1066680" y="2438280"/>
            <a:ext cx="1635120" cy="378000"/>
          </a:xfrm>
          <a:prstGeom prst="rect">
            <a:avLst/>
          </a:prstGeom>
          <a:ln w="0">
            <a:noFill/>
          </a:ln>
        </p:spPr>
      </p:pic>
      <p:pic>
        <p:nvPicPr>
          <p:cNvPr id="113" name="epfl_logo" descr=""/>
          <p:cNvPicPr/>
          <p:nvPr/>
        </p:nvPicPr>
        <p:blipFill>
          <a:blip r:embed="rId14"/>
          <a:stretch/>
        </p:blipFill>
        <p:spPr>
          <a:xfrm>
            <a:off x="3200400" y="2438280"/>
            <a:ext cx="1371600" cy="38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08080" y="3368520"/>
            <a:ext cx="159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yriad Condensed"/>
                <a:ea typeface="Arial"/>
              </a:rPr>
              <a:t>The Richard H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yriad Condensed"/>
                <a:ea typeface="Arial"/>
              </a:rPr>
              <a:t>Shaw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day_logo" descr=""/>
          <p:cNvPicPr/>
          <p:nvPr/>
        </p:nvPicPr>
        <p:blipFill>
          <a:blip r:embed="rId15"/>
          <a:stretch/>
        </p:blipFill>
        <p:spPr>
          <a:xfrm>
            <a:off x="1143000" y="4324320"/>
            <a:ext cx="1450800" cy="468360"/>
          </a:xfrm>
          <a:prstGeom prst="rect">
            <a:avLst/>
          </a:prstGeom>
          <a:ln w="0">
            <a:noFill/>
          </a:ln>
        </p:spPr>
      </p:pic>
      <p:pic>
        <p:nvPicPr>
          <p:cNvPr id="116" name="logo_brain" descr=""/>
          <p:cNvPicPr/>
          <p:nvPr/>
        </p:nvPicPr>
        <p:blipFill>
          <a:blip r:embed="rId16"/>
          <a:stretch/>
        </p:blipFill>
        <p:spPr>
          <a:xfrm>
            <a:off x="4876920" y="4248000"/>
            <a:ext cx="1096920" cy="628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1080" y="541008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Myriad Condensed"/>
                <a:ea typeface="Arial"/>
              </a:rPr>
              <a:t>Dipl. Inf. Adam B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_canoo" descr=""/>
          <p:cNvPicPr/>
          <p:nvPr/>
        </p:nvPicPr>
        <p:blipFill>
          <a:blip r:embed="rId17"/>
          <a:stretch/>
        </p:blipFill>
        <p:spPr>
          <a:xfrm>
            <a:off x="6562800" y="3592440"/>
            <a:ext cx="128592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04960" y="3200400"/>
          <a:ext cx="871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3200400"/>
                    <a:ext cx="871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yriad Condensed"/>
              </a:rPr>
              <a:t>Adoption Minu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09880" y="837360"/>
            <a:ext cx="1371600" cy="1524600"/>
            <a:chOff x="3809880" y="837360"/>
            <a:chExt cx="1371600" cy="1524600"/>
          </a:xfrm>
        </p:grpSpPr>
        <p:graphicFrame>
          <p:nvGraphicFramePr>
            <p:cNvPr id="124" name=""/>
            <p:cNvGraphicFramePr/>
            <p:nvPr/>
          </p:nvGraphicFramePr>
          <p:xfrm>
            <a:off x="3809880" y="1066680"/>
            <a:ext cx="507960" cy="53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9880" y="1066680"/>
                      <a:ext cx="50796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"/>
            <p:cNvGraphicFramePr/>
            <p:nvPr/>
          </p:nvGraphicFramePr>
          <p:xfrm>
            <a:off x="4817880" y="1066680"/>
            <a:ext cx="36360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17880" y="1066680"/>
                      <a:ext cx="3636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4419360" y="838080"/>
              <a:ext cx="228600" cy="152388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endCxn id="128" idx="0"/>
            </p:cNvCxnSpPr>
            <p:nvPr/>
          </p:nvCxnSpPr>
          <p:spPr>
            <a:xfrm flipV="1">
              <a:off x="4063680" y="837360"/>
              <a:ext cx="470520" cy="229320"/>
            </a:xfrm>
            <a:prstGeom prst="straightConnector1">
              <a:avLst/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130" name=""/>
            <p:cNvCxnSpPr>
              <a:endCxn id="128" idx="0"/>
            </p:cNvCxnSpPr>
            <p:nvPr/>
          </p:nvCxnSpPr>
          <p:spPr>
            <a:xfrm flipH="1" flipV="1">
              <a:off x="4533480" y="837360"/>
              <a:ext cx="467280" cy="229320"/>
            </a:xfrm>
            <a:prstGeom prst="straightConnector1">
              <a:avLst/>
            </a:prstGeom>
            <a:ln w="28440">
              <a:solidFill>
                <a:srgbClr val="ffcc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14440" y="2819520"/>
          <a:ext cx="871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819520"/>
                    <a:ext cx="871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yriad Condensed"/>
              </a:rPr>
              <a:t>Information From Treasur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89120" y="4586400"/>
            <a:ext cx="39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Myriad Condensed"/>
              </a:rPr>
              <a:t>Ursula Bur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yriad Condensed"/>
              </a:rPr>
              <a:t>(on behalf of Patrick Walt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Profit &amp; Loss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514520"/>
            <a:ext cx="8534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Balance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14600" y="2362320"/>
          <a:ext cx="4329000" cy="292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432900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3048120"/>
          <a:ext cx="871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8120"/>
                    <a:ext cx="871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8580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yriad Condensed"/>
              </a:rPr>
              <a:t>Discharge From Bo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9880" y="837360"/>
            <a:ext cx="1371600" cy="1524600"/>
            <a:chOff x="3809880" y="837360"/>
            <a:chExt cx="1371600" cy="1524600"/>
          </a:xfrm>
        </p:grpSpPr>
        <p:graphicFrame>
          <p:nvGraphicFramePr>
            <p:cNvPr id="146" name=""/>
            <p:cNvGraphicFramePr/>
            <p:nvPr/>
          </p:nvGraphicFramePr>
          <p:xfrm>
            <a:off x="3809880" y="1066680"/>
            <a:ext cx="507960" cy="53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9880" y="1066680"/>
                      <a:ext cx="50796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4817880" y="1066680"/>
            <a:ext cx="36360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17880" y="1066680"/>
                      <a:ext cx="3636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4419360" y="838080"/>
              <a:ext cx="228600" cy="152388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endCxn id="150" idx="0"/>
            </p:cNvCxnSpPr>
            <p:nvPr/>
          </p:nvCxnSpPr>
          <p:spPr>
            <a:xfrm flipV="1">
              <a:off x="4063680" y="837360"/>
              <a:ext cx="470520" cy="229320"/>
            </a:xfrm>
            <a:prstGeom prst="straightConnector1">
              <a:avLst/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152" name=""/>
            <p:cNvCxnSpPr>
              <a:endCxn id="150" idx="0"/>
            </p:cNvCxnSpPr>
            <p:nvPr/>
          </p:nvCxnSpPr>
          <p:spPr>
            <a:xfrm flipH="1" flipV="1">
              <a:off x="4533480" y="837360"/>
              <a:ext cx="467280" cy="229320"/>
            </a:xfrm>
            <a:prstGeom prst="straightConnector1">
              <a:avLst/>
            </a:prstGeom>
            <a:ln w="28440">
              <a:solidFill>
                <a:srgbClr val="ffcc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743200" y="3200400"/>
          <a:ext cx="871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200400"/>
                    <a:ext cx="871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yriad Condensed"/>
              </a:rPr>
              <a:t>Ele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9880" y="837360"/>
            <a:ext cx="1371600" cy="1524600"/>
            <a:chOff x="3809880" y="837360"/>
            <a:chExt cx="1371600" cy="1524600"/>
          </a:xfrm>
        </p:grpSpPr>
        <p:graphicFrame>
          <p:nvGraphicFramePr>
            <p:cNvPr id="158" name=""/>
            <p:cNvGraphicFramePr/>
            <p:nvPr/>
          </p:nvGraphicFramePr>
          <p:xfrm>
            <a:off x="3809880" y="1066680"/>
            <a:ext cx="507960" cy="53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9880" y="1066680"/>
                      <a:ext cx="50796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"/>
            <p:cNvGraphicFramePr/>
            <p:nvPr/>
          </p:nvGraphicFramePr>
          <p:xfrm>
            <a:off x="4817880" y="1066680"/>
            <a:ext cx="36360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17880" y="1066680"/>
                      <a:ext cx="3636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4419360" y="838080"/>
              <a:ext cx="228600" cy="152388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endCxn id="162" idx="0"/>
            </p:cNvCxnSpPr>
            <p:nvPr/>
          </p:nvCxnSpPr>
          <p:spPr>
            <a:xfrm flipV="1">
              <a:off x="4063680" y="837360"/>
              <a:ext cx="470520" cy="229320"/>
            </a:xfrm>
            <a:prstGeom prst="straightConnector1">
              <a:avLst/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164" name=""/>
            <p:cNvCxnSpPr>
              <a:endCxn id="162" idx="0"/>
            </p:cNvCxnSpPr>
            <p:nvPr/>
          </p:nvCxnSpPr>
          <p:spPr>
            <a:xfrm flipH="1" flipV="1">
              <a:off x="4533480" y="837360"/>
              <a:ext cx="467280" cy="229320"/>
            </a:xfrm>
            <a:prstGeom prst="straightConnector1">
              <a:avLst/>
            </a:prstGeom>
            <a:ln w="28440">
              <a:solidFill>
                <a:srgbClr val="ffcc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Report 2002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Adoption GA-Minutes 2001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Information From the Treasurer 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Discharge of Exec Board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Elections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Perspectives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Varia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Elected 2001 ...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Condensed"/>
              </a:rPr>
              <a:t>Elected Last Year (For a Two Years Term):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Arthur Neudeck, President, Giniality AG Basel 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Patrick Walther, Treasurer, Ergon AG, Zurich 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Alain Hsiung, CEO Ideartis Consulting, Zurich 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Oliver Vogel, IBM Business Consulting Services 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Romain Boichat, EPFL, Lausanne 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Silvano Maffeis, SoftWired AG, Zurich 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Condensed"/>
              </a:rPr>
              <a:t>Leaving 2002: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(none)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Elections 2002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Condensed"/>
              </a:rPr>
              <a:t>Re-Elections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Markus Pilz, esmertec AG, Dübendorf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Roland Vögeli, firstSteps GmbH, Zürich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Condensed"/>
              </a:rPr>
              <a:t>New Board Members: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(None)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0" y="3200400"/>
          <a:ext cx="871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200400"/>
                    <a:ext cx="871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Myriad Condensed"/>
              </a:rPr>
              <a:t>Budget 20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1360" y="4280040"/>
            <a:ext cx="39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Myriad Condensed"/>
              </a:rPr>
              <a:t>Ursula Bur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Myriad Condensed"/>
              </a:rPr>
              <a:t>(on behalf of Patrick Walt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Budget </a:t>
            </a:r>
            <a:r>
              <a:rPr b="1" lang="de-CH" sz="4400" spc="-1" strike="noStrike">
                <a:solidFill>
                  <a:srgbClr val="000000"/>
                </a:solidFill>
                <a:latin typeface="Myriad Condensed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Profit &amp; Loss)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905120" y="2057400"/>
          <a:ext cx="5305320" cy="32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530532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328840" y="3200400"/>
          <a:ext cx="871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8840" y="3200400"/>
                    <a:ext cx="871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83808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yriad Condensed"/>
              </a:rPr>
              <a:t>Persp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Perspectives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Further sponsors, especially Gold Sponsor.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Stronger presence in Romandie.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ca. 15 Events, 3-4 large ones.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Consolidate and Re-launch JUGS: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Stronger “Get together“.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Time after “Hype“?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State-of the Art Java Technology.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Java Visions.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00400" y="3200400"/>
          <a:ext cx="871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200400"/>
                    <a:ext cx="871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yriad Condensed"/>
              </a:rPr>
              <a:t>Var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4522680"/>
            <a:ext cx="7010640" cy="114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395520" y="4673520"/>
          <a:ext cx="2354400" cy="8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4673520"/>
                    <a:ext cx="23544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066680" y="1984320"/>
            <a:ext cx="182880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Condensed"/>
              </a:rPr>
              <a:t>Members</a:t>
            </a:r>
            <a:r>
              <a:rPr b="1" lang="en-US" sz="2000" spc="-1" strike="noStrike">
                <a:solidFill>
                  <a:srgbClr val="000000"/>
                </a:solidFill>
                <a:latin typeface="Myriad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Interes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Trust,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838080"/>
            <a:ext cx="7010640" cy="10670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Condensed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1982880"/>
            <a:ext cx="182880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Condensed"/>
              </a:rPr>
              <a:t>Board</a:t>
            </a:r>
            <a:r>
              <a:rPr b="1" lang="en-US" sz="2000" spc="-1" strike="noStrike">
                <a:solidFill>
                  <a:srgbClr val="000000"/>
                </a:solidFill>
                <a:latin typeface="Myriad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Working ha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1982880"/>
            <a:ext cx="182880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yriad Condensed"/>
              </a:rPr>
              <a:t>Sponsors</a:t>
            </a:r>
            <a:r>
              <a:rPr b="1" lang="en-US" sz="2000" spc="-1" strike="noStrike">
                <a:solidFill>
                  <a:srgbClr val="000000"/>
                </a:solidFill>
                <a:latin typeface="Myriad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Interes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Trust,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3200400"/>
          <a:ext cx="871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200400"/>
                    <a:ext cx="871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Myriad Condensed"/>
              </a:rPr>
              <a:t>Report 200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Activities ...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13 different events that took place: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0 RIPS, 13 WIPS, 0 BIZZ.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4 Top Shots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Further opportunities.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Events that did not take place: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2 canceled (JAXFront in Romandie, EAI).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1 moved.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Partner-Events: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JUG Stuttgart: Camp Eclipse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/ch/open: Workshop Days (one workshop canceled)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Romandie Events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One held, one canceled.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... Activities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Sponsoring: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New and leaving sponsors. 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Still international contacts and co-operations: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/ch/open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JUG Stuttgart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Slightly modified event statements.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Condensed"/>
              </a:rPr>
              <a:t>Manifestation of board organization.</a:t>
            </a:r>
            <a:endParaRPr b="0" lang="en-US" sz="2800" spc="-1" strike="noStrike">
              <a:solidFill>
                <a:srgbClr val="000000"/>
              </a:solidFill>
              <a:latin typeface="Myria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Event Topics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Language: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Scripting for Java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New IO Package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Architecture: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J2EE Design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Model driven Architecture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J2ME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JXTA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Content Repositories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Java XML Rendering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Deployment: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yria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Condensed"/>
              </a:rPr>
              <a:t>ANT</a:t>
            </a:r>
            <a:endParaRPr b="0" lang="en-US" sz="2000" spc="-1" strike="noStrike">
              <a:solidFill>
                <a:srgbClr val="000000"/>
              </a:solidFill>
              <a:latin typeface="Myriad Condense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Condensed"/>
              </a:rPr>
              <a:t>.NET &amp; Java</a:t>
            </a:r>
            <a:endParaRPr b="0" lang="en-US" sz="2400" spc="-1" strike="noStrike">
              <a:solidFill>
                <a:srgbClr val="000000"/>
              </a:solidFill>
              <a:latin typeface="Myria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Eval: Event Speakers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3434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Eval: Event Topics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296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yriad Condensed"/>
              </a:rPr>
              <a:t>Eval: Event Satisfaction</a:t>
            </a:r>
            <a:endParaRPr b="1" lang="en-US" sz="4400" spc="-1" strike="noStrike">
              <a:solidFill>
                <a:srgbClr val="000000"/>
              </a:solidFill>
              <a:latin typeface="Myriad Condensed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977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14:35:25Z</dcterms:created>
  <dc:creator>Arthur Neudeck</dc:creator>
  <dc:description/>
  <dc:language>en-US</dc:language>
  <cp:lastModifiedBy>Arthur Neudeck</cp:lastModifiedBy>
  <dcterms:modified xsi:type="dcterms:W3CDTF">2002-12-12T20:31:16Z</dcterms:modified>
  <cp:revision>68</cp:revision>
  <dc:subject/>
  <dc:title>4. General Assembly</dc:title>
</cp:coreProperties>
</file>